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1E8-9BAD-411E-9C6D-33928C15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0D0-4F34-4852-9D6E-D509CF8C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B1C-5645-438D-BDA6-1B8E6DEF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4C0-100C-4ACE-8115-CA88603D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DA2-CE88-44CC-B23A-046A4DA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29A-14AA-4BA7-A305-261A369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7F6-8904-42EA-907D-FCB32EF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DB9-3F05-4879-A019-E88D363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FE0-F84F-436E-9533-99EB89E4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D34-6D8B-4252-B4DF-EF49AE1F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E8A-A23C-42AB-950E-7E30A86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56A-593B-48B5-8A1B-050937A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42D2-DC0F-4D27-925C-430AF1131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eb.mit.edu/invent/iow/naismith.html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16640" y="180324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838080" y="-9360"/>
            <a:ext cx="98298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09480" y="304920"/>
            <a:ext cx="7419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sket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3240" y="3110040"/>
            <a:ext cx="2657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03848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h O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51320" y="585936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588960" cy="1138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2960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951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514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975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Naismith"/>
          <p:cNvPicPr/>
          <p:nvPr/>
        </p:nvPicPr>
        <p:blipFill>
          <a:blip r:embed="rId2"/>
          <a:srcRect l="0" t="0" r="74173" b="0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79132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eb 23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naismi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Naismith invented the game baske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Naismith"/>
          <p:cNvPicPr/>
          <p:nvPr/>
        </p:nvPicPr>
        <p:blipFill>
          <a:blip r:embed="rId4"/>
          <a:srcRect l="46667" t="0" r="0" b="0"/>
          <a:stretch/>
        </p:blipFill>
        <p:spPr>
          <a:xfrm>
            <a:off x="4572000" y="3441600"/>
            <a:ext cx="4572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092320"/>
            <a:ext cx="1245708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ketball (Ga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official basketball arrived in19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6 basketball became an Olympic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en's professional basketball league was established in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ed 300 million people played the sport basketball world wide just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first the game basketball was with a soccer ball and a peach basket, eventually they put a hole at the bottom of the peach basket so they didn’t have to climb up to get the ball every time someone sc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as born on November 6, 18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on November 28,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nd his three siblings were orphaned when both parents died of typhoid fever in 18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n a gold and silver medal for “Best All-Around Athlete in 1885 and 18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continued his education, studying theology at Presbyterian awarded him with his Master of Divinity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7:53Z</dcterms:created>
  <dc:creator>install</dc:creator>
  <dc:description/>
  <dc:language>en-US</dc:language>
  <cp:lastModifiedBy>install</cp:lastModifiedBy>
  <dcterms:modified xsi:type="dcterms:W3CDTF">2012-03-09T15:13:15Z</dcterms:modified>
  <cp:revision>8</cp:revision>
  <dc:subject/>
  <dc:title>Slide 1</dc:title>
</cp:coreProperties>
</file>